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ED863-8349-454C-B373-35993ED11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C80E-500F-4F67-9535-2CE3C9D5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D09A-CB89-4AF1-8507-8568F0F44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1545-5444-429B-AB1E-6A1F2EEC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94D8-4C3F-415C-A20B-279B379A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7E3E7-5FE2-4D09-83A5-22D0ECC67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8448-8887-4120-A32F-40BE3F633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48D9D-12B3-4DBA-BD58-253F9CA1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9BF8-CD67-4CAB-99AC-710043DF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D25B-271B-46E3-B065-9FA1B0AC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83752-FA15-4B68-A78C-09DA320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5E53-3B24-4347-B820-331F24692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B58C-CEA4-4F0A-86BF-3E077859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2F89E-2DAB-4E99-94AA-63D71A6B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40819-DE57-4445-88D8-1C8A7941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CC3A8-7A44-4D2D-8442-344DA328E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59B13-A9B2-42A5-8571-291C3E74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E12AE-79DD-4CAE-9CFE-81F7F58CD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24F25-5F9C-400E-BEA2-C1D7F6D2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AEB25-95DC-4FD1-8625-753162FE1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D42F1-4C34-4966-9CDB-FB7F75BB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09BD3-F919-4354-B812-25508E390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1B9D-3778-41FC-AC7C-230CA5A2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EF4F6-A11A-43FF-A647-258274F2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30B35-D56F-41C2-AC8C-616E773B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B7C580-99D2-4E0F-9CBC-D6A699639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3AFF1-D132-4027-A22B-A49BE9FF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B793F-C26F-4441-8910-55A2935BC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21A1-40FB-4B88-8457-5475A8697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353BA-59CB-47A9-8631-05C11C54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FFE613-91A9-4155-AB95-6B023CF19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E2537C-9F91-4972-9917-73CE770A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8D2B-C49A-44AA-B858-7C78AA23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7F45-9C5B-48D4-B5B4-B16EE64B8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74C55-CF11-48B3-81E6-73CEBB553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DEC603-CD47-4B64-885D-91EE339FF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D4753-FEC5-4D0C-B94F-99F55955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7CF00E-9087-4B48-80C9-B20CA687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D9E0C9-BA34-4B3A-8C1B-F31FBCF2A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EB385-A0F4-4BBF-82FA-47408D17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71982-BB9D-4B58-8516-BE43602A0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FA61A-C946-4D58-9E73-562ACF1B2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1625B-D126-46D0-B9CA-0B3B1FDB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33EC-5F36-4655-B444-25B63D69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131E-984D-4DCD-AAC3-7474BDA43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3CF2-592B-478E-86B3-7417D9899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2117-D891-45B6-9F70-57042FE3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A083-796C-460C-98C0-AA1A61812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25F7C-8243-466C-8BFC-A7CCF9C2DC5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DB80-87C1-4293-8D07-6D8FB702B8F0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455-E186-48D3-9053-9C2E73528E4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E520A-E35E-4A72-A693-7C27EC9D69D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7858440" cy="18352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rst Year, 3.3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La Prác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600" y="11426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na: la ro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iguel: el abrig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raciela y yo: la bufand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úl y Ben: el gor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: los shor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TextBox 4"/>
          <p:cNvSpPr/>
          <p:nvPr/>
        </p:nvSpPr>
        <p:spPr>
          <a:xfrm>
            <a:off x="2514600" y="182412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Diana va a llevar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a.  O  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Diana 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a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a a llev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TextBox 5"/>
          <p:cNvSpPr/>
          <p:nvPr/>
        </p:nvSpPr>
        <p:spPr>
          <a:xfrm>
            <a:off x="2514600" y="2743200"/>
            <a:ext cx="624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Miguel va a llevar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o.  O  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Miguel 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o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a a llev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2590920" y="358128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amos a llevar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a.  O   La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amos a llev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TextBox 7"/>
          <p:cNvSpPr/>
          <p:nvPr/>
        </p:nvSpPr>
        <p:spPr>
          <a:xfrm>
            <a:off x="2666880" y="4572000"/>
            <a:ext cx="998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Ellos van a llevar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o.  O   Lo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an a llev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TextBox 8"/>
          <p:cNvSpPr/>
          <p:nvPr/>
        </p:nvSpPr>
        <p:spPr>
          <a:xfrm>
            <a:off x="2743200" y="5410080"/>
            <a:ext cx="624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Yo voy a llevar</a:t>
            </a:r>
            <a:r>
              <a:rPr b="1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los.  O   Los </a:t>
            </a:r>
            <a:r>
              <a:rPr b="0" lang="en-US" sz="2400" spc="-1" strike="noStrike">
                <a:solidFill>
                  <a:srgbClr val="002060"/>
                </a:solidFill>
                <a:latin typeface="Constantia"/>
                <a:ea typeface="Arial"/>
              </a:rPr>
              <a:t>voy a llevar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23" dur="20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Direct Obje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90080" y="25909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___________________________ in a sentence receives the action of the ver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rect objects answer the questions ________________ or ____________________ about the verb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TextBox 3"/>
          <p:cNvSpPr/>
          <p:nvPr/>
        </p:nvSpPr>
        <p:spPr>
          <a:xfrm>
            <a:off x="1398600" y="25146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direct object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TextBox 4"/>
          <p:cNvSpPr/>
          <p:nvPr/>
        </p:nvSpPr>
        <p:spPr>
          <a:xfrm>
            <a:off x="5302080" y="440208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who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TextBox 5"/>
          <p:cNvSpPr/>
          <p:nvPr/>
        </p:nvSpPr>
        <p:spPr>
          <a:xfrm>
            <a:off x="735120" y="51642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what?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Oval 15"/>
          <p:cNvSpPr/>
          <p:nvPr/>
        </p:nvSpPr>
        <p:spPr>
          <a:xfrm>
            <a:off x="6705720" y="5257800"/>
            <a:ext cx="2247840" cy="560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Oval 9"/>
          <p:cNvSpPr/>
          <p:nvPr/>
        </p:nvSpPr>
        <p:spPr>
          <a:xfrm>
            <a:off x="1887480" y="5257800"/>
            <a:ext cx="2379600" cy="5335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6515280" y="4703760"/>
            <a:ext cx="2438280" cy="55404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2209680" y="4707000"/>
            <a:ext cx="1752840" cy="5508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Oval 7"/>
          <p:cNvSpPr/>
          <p:nvPr/>
        </p:nvSpPr>
        <p:spPr>
          <a:xfrm>
            <a:off x="6400800" y="4191120"/>
            <a:ext cx="266688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Oval 8"/>
          <p:cNvSpPr/>
          <p:nvPr/>
        </p:nvSpPr>
        <p:spPr>
          <a:xfrm>
            <a:off x="1676520" y="4191120"/>
            <a:ext cx="2666880" cy="5331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ow do you know what the direct object of a sentence is?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78840" y="2315880"/>
            <a:ext cx="891540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ep 1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ocate the </a:t>
            </a:r>
            <a:r>
              <a:rPr b="0" lang="en-US" sz="2600" spc="-1" strike="noStrike">
                <a:solidFill>
                  <a:srgbClr val="f0628e"/>
                </a:solidFill>
                <a:latin typeface="Constantia"/>
              </a:rPr>
              <a:t>verb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(Underline it!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tep 2: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k yourself,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WHO?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WHAT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?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ceives the action of the verb. That is your </a:t>
            </a:r>
            <a:r>
              <a:rPr b="0" lang="en-US" sz="2600" spc="-1" strike="noStrike">
                <a:solidFill>
                  <a:srgbClr val="a5c249"/>
                </a:solidFill>
                <a:latin typeface="Constantia"/>
              </a:rPr>
              <a:t>direct object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(Circle it!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ENGLISH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SPANIS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en-US" sz="2800" spc="-1" strike="noStrike" u="sng">
                <a:solidFill>
                  <a:srgbClr val="f0628e"/>
                </a:solidFill>
                <a:uFillTx/>
                <a:latin typeface="Constantia"/>
              </a:rPr>
              <a:t>have  </a:t>
            </a:r>
            <a:r>
              <a:rPr b="0" lang="en-US" sz="2800" spc="-1" strike="noStrike">
                <a:solidFill>
                  <a:srgbClr val="f0628e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the shoe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. Yo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 u="sng">
                <a:solidFill>
                  <a:srgbClr val="f0628e"/>
                </a:solidFill>
                <a:uFillTx/>
                <a:latin typeface="Constantia"/>
              </a:rPr>
              <a:t>tengo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los zapato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e </a:t>
            </a:r>
            <a:r>
              <a:rPr b="0" lang="en-US" sz="2800" spc="-1" strike="noStrike" u="sng">
                <a:solidFill>
                  <a:srgbClr val="f0628e"/>
                </a:solidFill>
                <a:uFillTx/>
                <a:latin typeface="Constantia"/>
              </a:rPr>
              <a:t>wear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a scarf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2. Ella </a:t>
            </a:r>
            <a:r>
              <a:rPr b="0" lang="en-US" sz="2800" spc="-1" strike="noStrike" u="sng">
                <a:solidFill>
                  <a:srgbClr val="f0628e"/>
                </a:solidFill>
                <a:uFillTx/>
                <a:latin typeface="Constantia"/>
              </a:rPr>
              <a:t>lleva 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una bufanda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 </a:t>
            </a:r>
            <a:r>
              <a:rPr b="0" lang="en-US" sz="2800" spc="-1" strike="noStrike" u="sng">
                <a:solidFill>
                  <a:srgbClr val="f0628e"/>
                </a:solidFill>
                <a:uFillTx/>
                <a:latin typeface="Constantia"/>
              </a:rPr>
              <a:t>call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your broth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3. </a:t>
            </a:r>
            <a:r>
              <a:rPr b="0" lang="en-US" sz="2800" spc="-1" strike="noStrike">
                <a:solidFill>
                  <a:srgbClr val="f0628e"/>
                </a:solidFill>
                <a:latin typeface="Constantia"/>
              </a:rPr>
              <a:t>Llamamos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n-US" sz="2800" spc="-1" strike="noStrike">
                <a:solidFill>
                  <a:srgbClr val="a5c249"/>
                </a:solidFill>
                <a:latin typeface="Constantia"/>
              </a:rPr>
              <a:t>a tu hermano.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Direct Object Pronoun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52280" y="1851120"/>
            <a:ext cx="9144000" cy="44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272880" indent="-272880">
              <a:lnSpc>
                <a:spcPct val="2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_______________________________________ takes the place of the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direct objec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272880" indent="-272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ca62"/>
                </a:solidFill>
                <a:latin typeface="Constantia"/>
              </a:rPr>
              <a:t>Examp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 have  </a:t>
            </a: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the shoes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.  I have </a:t>
            </a:r>
            <a:r>
              <a:rPr b="1" i="1" lang="en-US" sz="2800" spc="-1" strike="noStrike">
                <a:solidFill>
                  <a:srgbClr val="f0628e"/>
                </a:solidFill>
                <a:latin typeface="Constantia"/>
              </a:rPr>
              <a:t>them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She wears  </a:t>
            </a: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a scarf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 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She wears</a:t>
            </a:r>
            <a:r>
              <a:rPr b="0" i="1" lang="en-US" sz="2800" spc="-1" strike="noStrike">
                <a:solidFill>
                  <a:srgbClr val="f0628e"/>
                </a:solidFill>
                <a:latin typeface="Constantia"/>
              </a:rPr>
              <a:t> </a:t>
            </a:r>
            <a:r>
              <a:rPr b="1" i="1" lang="en-US" sz="2800" spc="-1" strike="noStrike">
                <a:solidFill>
                  <a:srgbClr val="f0628e"/>
                </a:solidFill>
                <a:latin typeface="Constantia"/>
              </a:rPr>
              <a:t>it</a:t>
            </a:r>
            <a:r>
              <a:rPr b="1" i="1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spcBef>
                <a:spcPts val="700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We call </a:t>
            </a: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your brother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.  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We call </a:t>
            </a:r>
            <a:r>
              <a:rPr b="1" i="1" lang="en-US" sz="2800" spc="-1" strike="noStrike">
                <a:solidFill>
                  <a:srgbClr val="f0628e"/>
                </a:solidFill>
                <a:latin typeface="Constantia"/>
              </a:rPr>
              <a:t>him</a:t>
            </a:r>
            <a:r>
              <a:rPr b="0" i="1" lang="en-US" sz="28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TextBox 3"/>
          <p:cNvSpPr/>
          <p:nvPr/>
        </p:nvSpPr>
        <p:spPr>
          <a:xfrm>
            <a:off x="1523880" y="194472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direct object pronou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Curved Left Arrow 8"/>
          <p:cNvSpPr/>
          <p:nvPr/>
        </p:nvSpPr>
        <p:spPr>
          <a:xfrm rot="687000">
            <a:off x="6172200" y="2273400"/>
            <a:ext cx="762120" cy="2933640"/>
          </a:xfrm>
          <a:custGeom>
            <a:avLst/>
            <a:gdLst>
              <a:gd name="textAreaLeft" fmla="*/ 101880 w 762120"/>
              <a:gd name="textAreaRight" fmla="*/ 660240 w 762120"/>
              <a:gd name="textAreaTop" fmla="*/ 662040 h 2933640"/>
              <a:gd name="textAreaBottom" fmla="*/ 2176560 h 2933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48" stAng="-5400000" swAng="5400000"/>
                <a:lnTo>
                  <a:pt x="21600" y="11151"/>
                </a:lnTo>
                <a:arcTo wR="21600" hR="9748" stAng="0" swAng="3613497"/>
                <a:lnTo>
                  <a:pt x="5400" y="21290"/>
                </a:lnTo>
                <a:lnTo>
                  <a:pt x="0" y="20198"/>
                </a:lnTo>
                <a:lnTo>
                  <a:pt x="5400" y="18485"/>
                </a:lnTo>
                <a:lnTo>
                  <a:pt x="5400" y="19186"/>
                </a:lnTo>
                <a:arcTo wR="21600" hR="9748" stAng="3613497" swAng="-3501599"/>
                <a:lnTo>
                  <a:pt x="21544" y="10450"/>
                </a:lnTo>
                <a:arcTo wR="21600" hR="9748" stAng="-111898" swAng="-5288102"/>
                <a:close/>
              </a:path>
              <a:path fill="darkenLess" w="21600" h="21600">
                <a:moveTo>
                  <a:pt x="0" y="0"/>
                </a:moveTo>
                <a:arcTo wR="21600" hR="9748" stAng="-5400000" swAng="5400000"/>
                <a:lnTo>
                  <a:pt x="21600" y="11151"/>
                </a:lnTo>
                <a:arcTo wR="21600" hR="9748" stAng="0" swAng="-111898"/>
                <a:lnTo>
                  <a:pt x="21544" y="10450"/>
                </a:lnTo>
                <a:arcTo wR="21600" hR="9748" stAng="-111898" swAng="-5288102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Curved Left Arrow 9"/>
          <p:cNvSpPr/>
          <p:nvPr/>
        </p:nvSpPr>
        <p:spPr>
          <a:xfrm rot="453600">
            <a:off x="6397200" y="2244600"/>
            <a:ext cx="762120" cy="3470400"/>
          </a:xfrm>
          <a:custGeom>
            <a:avLst/>
            <a:gdLst>
              <a:gd name="textAreaLeft" fmla="*/ 101880 w 762120"/>
              <a:gd name="textAreaRight" fmla="*/ 660240 w 762120"/>
              <a:gd name="textAreaTop" fmla="*/ 795960 h 3470400"/>
              <a:gd name="textAreaBottom" fmla="*/ 2579040 h 347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1" stAng="-5400000" swAng="5400000"/>
                <a:lnTo>
                  <a:pt x="21600" y="11096"/>
                </a:lnTo>
                <a:arcTo wR="21600" hR="9911" stAng="0" swAng="3637966"/>
                <a:lnTo>
                  <a:pt x="5400" y="21285"/>
                </a:lnTo>
                <a:lnTo>
                  <a:pt x="0" y="20415"/>
                </a:lnTo>
                <a:lnTo>
                  <a:pt x="5400" y="18914"/>
                </a:lnTo>
                <a:lnTo>
                  <a:pt x="5400" y="19507"/>
                </a:lnTo>
                <a:arcTo wR="21600" hR="9911" stAng="3637966" swAng="-3543522"/>
                <a:lnTo>
                  <a:pt x="21561" y="10504"/>
                </a:lnTo>
                <a:arcTo wR="21600" hR="9911" stAng="-94444" swAng="-5305556"/>
                <a:close/>
              </a:path>
              <a:path fill="darkenLess" w="21600" h="21600">
                <a:moveTo>
                  <a:pt x="0" y="0"/>
                </a:moveTo>
                <a:arcTo wR="21600" hR="9911" stAng="-5400000" swAng="5400000"/>
                <a:lnTo>
                  <a:pt x="21600" y="11096"/>
                </a:lnTo>
                <a:arcTo wR="21600" hR="9911" stAng="0" swAng="-94444"/>
                <a:lnTo>
                  <a:pt x="21561" y="10504"/>
                </a:lnTo>
                <a:arcTo wR="21600" hR="9911" stAng="-94444" swAng="-5305556"/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Down Arrow 11"/>
          <p:cNvSpPr/>
          <p:nvPr/>
        </p:nvSpPr>
        <p:spPr>
          <a:xfrm>
            <a:off x="5888160" y="2590920"/>
            <a:ext cx="284040" cy="175248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DOP’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935000"/>
          <a:ext cx="8001000" cy="2835360"/>
        </p:xfrm>
        <a:graphic>
          <a:graphicData uri="http://schemas.openxmlformats.org/drawingml/2006/table">
            <a:tbl>
              <a:tblPr/>
              <a:tblGrid>
                <a:gridCol w="4000680"/>
                <a:gridCol w="4000320"/>
              </a:tblGrid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m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n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  <a:tr h="945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ou(famili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ou all(familia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cceef1"/>
                    </a:solidFill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, l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ou(formal), him, 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los, l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you all(formal), th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0bd0d9"/>
                      </a:solidFill>
                    </a:lnL>
                    <a:lnR w="5760">
                      <a:solidFill>
                        <a:srgbClr val="0bd0d9"/>
                      </a:solidFill>
                    </a:lnR>
                    <a:lnT w="5760">
                      <a:solidFill>
                        <a:srgbClr val="0bd0d9"/>
                      </a:solidFill>
                    </a:lnT>
                    <a:lnB w="5760">
                      <a:solidFill>
                        <a:srgbClr val="0bd0d9"/>
                      </a:solidFill>
                    </a:lnB>
                    <a:solidFill>
                      <a:srgbClr val="e7f7f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Structure of the sentenc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76320" y="1218960"/>
            <a:ext cx="86104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39720" indent="-245880">
              <a:lnSpc>
                <a:spcPct val="2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 Spanish the __________________________________is placed ____________________ the conjugated verb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f6fc6"/>
                </a:solidFill>
                <a:latin typeface="Constantia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I need </a:t>
            </a:r>
            <a:r>
              <a:rPr b="0" i="1" lang="en-US" sz="2400" spc="-1" strike="noStrike">
                <a:solidFill>
                  <a:srgbClr val="f0628e"/>
                </a:solidFill>
                <a:latin typeface="Constantia"/>
              </a:rPr>
              <a:t>them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 (the shoes).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Yo </a:t>
            </a:r>
            <a:r>
              <a:rPr b="0" lang="en-US" sz="2400" spc="-1" strike="noStrike">
                <a:solidFill>
                  <a:srgbClr val="f0628e"/>
                </a:solidFill>
                <a:latin typeface="Constantia"/>
              </a:rPr>
              <a:t>los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necesito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You call</a:t>
            </a:r>
            <a:r>
              <a:rPr b="0" lang="en-US" sz="2400" spc="-1" strike="noStrike">
                <a:solidFill>
                  <a:srgbClr val="f0628e"/>
                </a:solidFill>
                <a:latin typeface="Constantia"/>
              </a:rPr>
              <a:t> </a:t>
            </a:r>
            <a:r>
              <a:rPr b="0" i="1" lang="en-US" sz="2400" spc="-1" strike="noStrike">
                <a:solidFill>
                  <a:srgbClr val="f0628e"/>
                </a:solidFill>
                <a:latin typeface="Constantia"/>
              </a:rPr>
              <a:t>him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. 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Tú </a:t>
            </a:r>
            <a:r>
              <a:rPr b="0" lang="en-US" sz="2400" spc="-1" strike="noStrike">
                <a:solidFill>
                  <a:srgbClr val="f0628e"/>
                </a:solidFill>
                <a:latin typeface="Constantia"/>
              </a:rPr>
              <a:t>lo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llama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I have </a:t>
            </a:r>
            <a:r>
              <a:rPr b="0" i="1" lang="en-US" sz="2400" spc="-1" strike="noStrike">
                <a:solidFill>
                  <a:srgbClr val="f0628e"/>
                </a:solidFill>
                <a:latin typeface="Constantia"/>
              </a:rPr>
              <a:t>it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 (the scarf).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	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Yo  </a:t>
            </a:r>
            <a:r>
              <a:rPr b="0" lang="en-US" sz="2400" spc="-1" strike="noStrike">
                <a:solidFill>
                  <a:srgbClr val="f0628e"/>
                </a:solidFill>
                <a:latin typeface="Constantia"/>
              </a:rPr>
              <a:t>la</a:t>
            </a:r>
            <a:r>
              <a:rPr b="0" lang="en-US" sz="2400" spc="-1" strike="noStrike">
                <a:solidFill>
                  <a:srgbClr val="0f6fc6"/>
                </a:solidFill>
                <a:latin typeface="Constantia"/>
              </a:rPr>
              <a:t> teng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2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TextBox 6"/>
          <p:cNvSpPr/>
          <p:nvPr/>
        </p:nvSpPr>
        <p:spPr>
          <a:xfrm>
            <a:off x="1219320" y="2057400"/>
            <a:ext cx="365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TextBox 7"/>
          <p:cNvSpPr/>
          <p:nvPr/>
        </p:nvSpPr>
        <p:spPr>
          <a:xfrm>
            <a:off x="2362320" y="129528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direct object pronou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4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28600" y="-30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La Prác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15192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na: los zapa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: la plu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oberto: las bufand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osefina y yo: las revist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lberto: el libr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TextBox 3"/>
          <p:cNvSpPr/>
          <p:nvPr/>
        </p:nvSpPr>
        <p:spPr>
          <a:xfrm>
            <a:off x="2743200" y="19051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Diana los compra.  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Diana buys them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TextBox 4"/>
          <p:cNvSpPr/>
          <p:nvPr/>
        </p:nvSpPr>
        <p:spPr>
          <a:xfrm>
            <a:off x="2590920" y="27432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Tú la compras.  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You buy  it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TextBox 5"/>
          <p:cNvSpPr/>
          <p:nvPr/>
        </p:nvSpPr>
        <p:spPr>
          <a:xfrm>
            <a:off x="2590920" y="358920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Roberto las compra.  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Roberto buys them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7" name="TextBox 6"/>
          <p:cNvSpPr/>
          <p:nvPr/>
        </p:nvSpPr>
        <p:spPr>
          <a:xfrm>
            <a:off x="2514600" y="4572000"/>
            <a:ext cx="61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Nosotros las compramos.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We buy them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TextBox 7"/>
          <p:cNvSpPr/>
          <p:nvPr/>
        </p:nvSpPr>
        <p:spPr>
          <a:xfrm>
            <a:off x="2819520" y="54864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Alberto lo compra.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Alberto buys it.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6" dur="2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5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4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8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La Práctic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8600" y="1218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6.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sotros: los pantal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7. 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ana: la rop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ff3ca"/>
                </a:solidFill>
                <a:latin typeface="Constantia"/>
              </a:rPr>
              <a:t>8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: el caf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514440" indent="-514440">
              <a:lnSpc>
                <a:spcPct val="2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3"/>
          <p:cNvSpPr/>
          <p:nvPr/>
        </p:nvSpPr>
        <p:spPr>
          <a:xfrm>
            <a:off x="1828800" y="198108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Vosotros los compráis.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You all (fam.)buy them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3124080" y="2814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Diana la compra.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Diana buys i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3809880" y="38052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Yo lo compro.  </a:t>
            </a:r>
            <a:r>
              <a:rPr b="1" i="1" lang="en-US" sz="2400" spc="-1" strike="noStrike">
                <a:solidFill>
                  <a:srgbClr val="f0628e"/>
                </a:solidFill>
                <a:latin typeface="Constantia"/>
                <a:ea typeface="Arial"/>
              </a:rPr>
              <a:t>I buy it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2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2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28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Aharoni"/>
                <a:ea typeface="Aharoni"/>
              </a:rPr>
              <a:t>DOPs with an infinitiv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2824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2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hen an infinitive follows the conjugated verb, the ____________________________________ can be placed in either of the following plac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________________ the conjugate verb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: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____________________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.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I want to take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them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oda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____________________ to the infinitiv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x: ___________________.     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I want to take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them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toda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extBox 3"/>
          <p:cNvSpPr/>
          <p:nvPr/>
        </p:nvSpPr>
        <p:spPr>
          <a:xfrm>
            <a:off x="820800" y="1905120"/>
            <a:ext cx="533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direct object pronoun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TextBox 4"/>
          <p:cNvSpPr/>
          <p:nvPr/>
        </p:nvSpPr>
        <p:spPr>
          <a:xfrm>
            <a:off x="-457200" y="392580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before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11240" y="44956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a839"/>
                </a:solidFill>
                <a:latin typeface="Constantia"/>
                <a:ea typeface="Arial"/>
              </a:rPr>
              <a:t>Las</a:t>
            </a:r>
            <a:r>
              <a:rPr b="0" lang="en-US" sz="2400" spc="-1" strike="noStrike">
                <a:solidFill>
                  <a:srgbClr val="55a839"/>
                </a:solidFill>
                <a:latin typeface="Constantia"/>
                <a:ea typeface="Arial"/>
              </a:rPr>
              <a:t> 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  <a:ea typeface="Arial"/>
              </a:rPr>
              <a:t>quiero sacar ho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TextBox 6"/>
          <p:cNvSpPr/>
          <p:nvPr/>
        </p:nvSpPr>
        <p:spPr>
          <a:xfrm>
            <a:off x="152280" y="59436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0c0"/>
                </a:solidFill>
                <a:latin typeface="Constantia"/>
                <a:ea typeface="Arial"/>
              </a:rPr>
              <a:t>Quiero sacar</a:t>
            </a:r>
            <a:r>
              <a:rPr b="1" lang="en-US" sz="2400" spc="-1" strike="noStrike">
                <a:solidFill>
                  <a:srgbClr val="55a839"/>
                </a:solidFill>
                <a:latin typeface="Constantia"/>
                <a:ea typeface="Arial"/>
              </a:rPr>
              <a:t>las</a:t>
            </a:r>
            <a:r>
              <a:rPr b="0" lang="en-US" sz="2400" spc="-1" strike="noStrike">
                <a:solidFill>
                  <a:srgbClr val="0070c0"/>
                </a:solidFill>
                <a:latin typeface="Constantia"/>
                <a:ea typeface="Arial"/>
              </a:rPr>
              <a:t> hoy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TextBox 7"/>
          <p:cNvSpPr/>
          <p:nvPr/>
        </p:nvSpPr>
        <p:spPr>
          <a:xfrm>
            <a:off x="-363600" y="53737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0628e"/>
                </a:solidFill>
                <a:latin typeface="Constantia"/>
                <a:ea typeface="Arial"/>
              </a:rPr>
              <a:t>attached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7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7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2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2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5T19:11:13Z</dcterms:created>
  <dc:creator>Owner</dc:creator>
  <dc:description/>
  <dc:language>en-US</dc:language>
  <cp:lastModifiedBy>Prine, Stephanie</cp:lastModifiedBy>
  <dcterms:modified xsi:type="dcterms:W3CDTF">2016-12-01T17:41:26Z</dcterms:modified>
  <cp:revision>34</cp:revision>
  <dc:subject/>
  <dc:title>Direct Object Pronouns</dc:title>
</cp:coreProperties>
</file>